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6ACD-36D6-4598-84AD-19F2ACFF5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D3D8-8C59-4556-A94F-94A36AD43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7893-DB32-40D1-80AD-25A46D0C3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AB47-5F7D-40C5-B663-D0AB8B3AB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650D-507D-4097-A332-4BBCC31A0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4921-3376-43AA-8B00-3FD83CBEE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3C37-7FF0-497A-8DD4-3E5501D74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D387-74B8-435D-BBE3-8635BB157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220E-B735-4DA7-99D9-F6D40D9A6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47B5-66A3-4DF7-B1FC-DC4939CB6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07E6-02B1-4CB6-A50E-3916C7609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7F4B-FEC9-47E4-8AAD-DF033B00C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8D69-625A-4436-938F-579F5D3B3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A159-BB87-4418-9630-110153CCF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BDB9-E1D8-4582-8BB6-D213BB783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41DB-17EE-4F8D-83AE-DE2A74D4B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66F6-C597-436C-AA25-1B0092B7D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4C94-0781-4391-A013-B9F835F78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FD03-DEC0-406A-A51C-CAD399395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0BA8-B94A-4C16-8463-6B570BA6E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BB45-3FD6-4158-8F26-D606D8616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523E-9239-4560-96F8-F97A10CCE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BF25-ED14-4343-8A02-CFD341D35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63A9-D853-4043-9081-350288E3A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6B1B-2AD9-4887-BD3C-1F56FD974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81A0-1AC7-4ECD-98FA-553EEDBB5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7B88-DE8B-4CE1-962C-607D20AD8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B0FA-5193-4CBD-A924-7F0EA0637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71BC-788A-45FE-AE84-9FE8144EE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8B30-E3F4-4F8B-AC06-B4E9D632C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46CD-C1CC-4BC4-9901-899365AD8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7D32-E34A-4DBC-BFDD-B405CF44F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EB23-2410-4B37-B28E-354986371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8291-B156-474C-B253-60946317E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A2D6-9DBE-40EB-AA22-C332AB29E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97E7-A363-4C9C-96F7-71824840D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4ED2-10D0-46A2-9CE7-E5CF4852C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4C6F-A505-4EF3-9FA0-9FF8DFC11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DDD8-044F-491B-B8EE-46B40AD39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F476-8339-4A3A-9EE3-E7E1A54B9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484C-6476-4092-9D8F-C15C38A50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ECDB5-7667-4643-AFF1-633B13E9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BE361-6E88-435D-8BAC-54DEA200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E9166-E975-406B-8450-CE93A880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D04C4-EE3C-4A3F-A31B-3937E5AD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BE444-D387-4AD4-8E34-C4FFD152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32EFC-DD4A-4679-AEB3-3B76A927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B21CA-E083-49E4-BA36-52B86A51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0AAB8-56A8-4033-BC1F-DB3D3F9A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D7476-6A21-4549-9598-4EBA540F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755EF-6DBB-4C33-A18E-14DC5C64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026F0-A175-4BB2-9757-B67D1949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3C96E-B71C-4E04-9150-2B8A8515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2947-95D1-4E28-897F-3FB4539E5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10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5" name="Picture 8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9"/>
            <p:cNvSpPr/>
            <p:nvPr/>
          </p:nvSpPr>
          <p:spPr>
            <a:xfrm>
              <a:off x="7933320" y="5943600"/>
              <a:ext cx="104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Equilibri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82e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Chapter 15</a:t>
            </a:r>
            <a:br>
              <a:rPr sz="5400"/>
            </a:b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Chemical Equilibrium</a:t>
            </a:r>
            <a:endParaRPr b="0" lang="en-US" sz="5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onsider the generalized reaction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85800" y="38862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expression for this reaction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2985120" y="5029200"/>
            <a:ext cx="3165120" cy="1312920"/>
            <a:chOff x="2985120" y="5029200"/>
            <a:chExt cx="3165120" cy="1312920"/>
          </a:xfrm>
        </p:grpSpPr>
        <p:sp>
          <p:nvSpPr>
            <p:cNvPr id="98" name="Rectangle 9"/>
            <p:cNvSpPr/>
            <p:nvPr/>
          </p:nvSpPr>
          <p:spPr>
            <a:xfrm>
              <a:off x="2985120" y="5334120"/>
              <a:ext cx="12463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c</a:t>
              </a: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2"/>
            <p:cNvGrpSpPr/>
            <p:nvPr/>
          </p:nvGrpSpPr>
          <p:grpSpPr>
            <a:xfrm>
              <a:off x="4245120" y="5029200"/>
              <a:ext cx="1905120" cy="1312920"/>
              <a:chOff x="4245120" y="5029200"/>
              <a:chExt cx="1905120" cy="1312920"/>
            </a:xfrm>
          </p:grpSpPr>
          <p:sp>
            <p:nvSpPr>
              <p:cNvPr id="100" name="Rectangle 10"/>
              <p:cNvSpPr/>
              <p:nvPr/>
            </p:nvSpPr>
            <p:spPr>
              <a:xfrm>
                <a:off x="4345560" y="5029200"/>
                <a:ext cx="178992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C]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D]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d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a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B]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1"/>
              <p:cNvSpPr/>
              <p:nvPr/>
            </p:nvSpPr>
            <p:spPr>
              <a:xfrm>
                <a:off x="4245120" y="5719320"/>
                <a:ext cx="190512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19"/>
          <p:cNvGrpSpPr/>
          <p:nvPr/>
        </p:nvGrpSpPr>
        <p:grpSpPr>
          <a:xfrm>
            <a:off x="2135520" y="2819520"/>
            <a:ext cx="4785120" cy="581400"/>
            <a:chOff x="2135520" y="2819520"/>
            <a:chExt cx="4785120" cy="581400"/>
          </a:xfrm>
        </p:grpSpPr>
        <p:sp>
          <p:nvSpPr>
            <p:cNvPr id="103" name="Rectangle 16"/>
            <p:cNvSpPr/>
            <p:nvPr/>
          </p:nvSpPr>
          <p:spPr>
            <a:xfrm>
              <a:off x="2135520" y="2819520"/>
              <a:ext cx="163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aA + b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7"/>
            <p:cNvSpPr/>
            <p:nvPr/>
          </p:nvSpPr>
          <p:spPr>
            <a:xfrm>
              <a:off x="5258520" y="2819520"/>
              <a:ext cx="16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cC + d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18" descr="equilibrium"/>
            <p:cNvPicPr/>
            <p:nvPr/>
          </p:nvPicPr>
          <p:blipFill>
            <a:blip r:embed="rId1"/>
            <a:stretch/>
          </p:blipFill>
          <p:spPr>
            <a:xfrm>
              <a:off x="3894120" y="3014640"/>
              <a:ext cx="1244520" cy="190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658 #3, 5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nce pressure is proportional to concentration for gases in a closed system, the equilibrium expression can also be written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10" name="Group 13"/>
          <p:cNvGrpSpPr/>
          <p:nvPr/>
        </p:nvGrpSpPr>
        <p:grpSpPr>
          <a:xfrm>
            <a:off x="2653920" y="3962520"/>
            <a:ext cx="3839040" cy="1480680"/>
            <a:chOff x="2653920" y="3962520"/>
            <a:chExt cx="3839040" cy="1480680"/>
          </a:xfrm>
        </p:grpSpPr>
        <p:sp>
          <p:nvSpPr>
            <p:cNvPr id="111" name="Rectangle 9"/>
            <p:cNvSpPr/>
            <p:nvPr/>
          </p:nvSpPr>
          <p:spPr>
            <a:xfrm>
              <a:off x="2653920" y="4267080"/>
              <a:ext cx="11196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p</a:t>
              </a: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2"/>
            <p:cNvGrpSpPr/>
            <p:nvPr/>
          </p:nvGrpSpPr>
          <p:grpSpPr>
            <a:xfrm>
              <a:off x="3789360" y="3962520"/>
              <a:ext cx="2703600" cy="1480680"/>
              <a:chOff x="3789360" y="3962520"/>
              <a:chExt cx="2703600" cy="1480680"/>
            </a:xfrm>
          </p:grpSpPr>
          <p:sp>
            <p:nvSpPr>
              <p:cNvPr id="113" name="Rectangle 10"/>
              <p:cNvSpPr/>
              <p:nvPr/>
            </p:nvSpPr>
            <p:spPr>
              <a:xfrm>
                <a:off x="3789360" y="3962520"/>
                <a:ext cx="2703600" cy="14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) (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D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d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A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a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) (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B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b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>
                <a:off x="3902040" y="4674960"/>
                <a:ext cx="251460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lationship Between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rom the Ideal Gas Law we know th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685800" y="3200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earranging it, we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484800" y="228600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PV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n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3313800" y="4038480"/>
            <a:ext cx="2500200" cy="1191240"/>
            <a:chOff x="3313800" y="4038480"/>
            <a:chExt cx="2500200" cy="1191240"/>
          </a:xfrm>
        </p:grpSpPr>
        <p:sp>
          <p:nvSpPr>
            <p:cNvPr id="120" name="Rectangle 8"/>
            <p:cNvSpPr/>
            <p:nvPr/>
          </p:nvSpPr>
          <p:spPr>
            <a:xfrm>
              <a:off x="3313800" y="4302000"/>
              <a:ext cx="25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82e32"/>
                  </a:solidFill>
                  <a:latin typeface="Arial"/>
                </a:rPr>
                <a:t>P</a:t>
              </a: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 =        </a:t>
              </a:r>
              <a:r>
                <a:rPr b="0" i="1" lang="en-US" sz="3600" spc="-1" strike="noStrike">
                  <a:solidFill>
                    <a:srgbClr val="c82e32"/>
                  </a:solidFill>
                  <a:latin typeface="Arial"/>
                </a:rPr>
                <a:t>R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9"/>
            <p:cNvSpPr/>
            <p:nvPr/>
          </p:nvSpPr>
          <p:spPr>
            <a:xfrm>
              <a:off x="4403520" y="4038480"/>
              <a:ext cx="48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82e32"/>
                  </a:solidFill>
                  <a:latin typeface="Arial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4292640" y="4626000"/>
              <a:ext cx="685800" cy="0"/>
            </a:xfrm>
            <a:prstGeom prst="line">
              <a:avLst/>
            </a:prstGeom>
            <a:ln w="381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lationship Between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lugging this into the expression for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for each substance, the relationship between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becom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685800" y="43434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882880" y="3397320"/>
            <a:ext cx="3376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(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RT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3600" spc="-1" strike="noStrike" baseline="30000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 baseline="30000">
                <a:solidFill>
                  <a:srgbClr val="c82e32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256680" y="5181480"/>
            <a:ext cx="86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= (moles of gaseous product) - (moles of gaseous reac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quilibrium Can Be Reached from Either Dire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120" y="3657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you can see, the ratio of [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to [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remains constant at this temperature no matter what the initial concentrations of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0" name="Picture 11" descr="15_T01"/>
          <p:cNvPicPr/>
          <p:nvPr/>
        </p:nvPicPr>
        <p:blipFill>
          <a:blip r:embed="rId1"/>
          <a:srcRect l="0" t="0" r="0" b="15220"/>
          <a:stretch/>
        </p:blipFill>
        <p:spPr>
          <a:xfrm>
            <a:off x="343080" y="1676520"/>
            <a:ext cx="8458200" cy="14922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2"/>
          <p:cNvSpPr/>
          <p:nvPr/>
        </p:nvSpPr>
        <p:spPr>
          <a:xfrm>
            <a:off x="414360" y="1774800"/>
            <a:ext cx="990720" cy="152280"/>
          </a:xfrm>
          <a:prstGeom prst="rect">
            <a:avLst/>
          </a:prstGeom>
          <a:solidFill>
            <a:srgbClr val="007cb2"/>
          </a:solidFill>
          <a:ln w="9360">
            <a:solidFill>
              <a:srgbClr val="00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quilibrium Can Be Reached from Either Dire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is the data from the last two trials from the table on the previous slid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4" name="Picture 8" descr="15_06"/>
          <p:cNvPicPr/>
          <p:nvPr/>
        </p:nvPicPr>
        <p:blipFill>
          <a:blip r:embed="rId1"/>
          <a:srcRect l="0" t="0" r="0" b="4178"/>
          <a:stretch/>
        </p:blipFill>
        <p:spPr>
          <a:xfrm>
            <a:off x="304920" y="1822320"/>
            <a:ext cx="4267080" cy="396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quilibrium Can Be Reached from Either Dire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doesn’t matter whether we start with 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 whether we start with 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:  we will have the same proportions of all three substances at equilibriu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7" name="Picture 9" descr="15_03"/>
          <p:cNvPicPr/>
          <p:nvPr/>
        </p:nvPicPr>
        <p:blipFill>
          <a:blip r:embed="rId1"/>
          <a:srcRect l="0" t="0" r="0" b="19231"/>
          <a:stretch/>
        </p:blipFill>
        <p:spPr>
          <a:xfrm>
            <a:off x="719280" y="1703520"/>
            <a:ext cx="7696080" cy="226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hat Does the Value of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Mean?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&gt;&gt;1, the reaction 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roduct-favor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; product predominates at equilibriu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40" name="Picture 7" descr="15_07"/>
          <p:cNvPicPr/>
          <p:nvPr/>
        </p:nvPicPr>
        <p:blipFill>
          <a:blip r:embed="rId1"/>
          <a:srcRect l="0" t="0" r="0" b="49256"/>
          <a:stretch/>
        </p:blipFill>
        <p:spPr>
          <a:xfrm>
            <a:off x="690480" y="1447920"/>
            <a:ext cx="374508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hat Does the Value of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Mean?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&gt;&gt;1, the reaction 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roduct-favor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; product predominates at equilibriu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4572000" y="4114800"/>
            <a:ext cx="4343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&lt;&lt;1, the reaction 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reactant-favor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; reactant predominates at equilib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15_07"/>
          <p:cNvPicPr/>
          <p:nvPr/>
        </p:nvPicPr>
        <p:blipFill>
          <a:blip r:embed="rId1"/>
          <a:srcRect l="0" t="0" r="0" b="4477"/>
          <a:stretch/>
        </p:blipFill>
        <p:spPr>
          <a:xfrm>
            <a:off x="690480" y="1447920"/>
            <a:ext cx="3745080" cy="487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ncept of Equilibriu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518112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hemical equilibrium occurs when a reaction and its reverse reaction proceed at the same rat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4" name="Picture 11" descr="15_01"/>
          <p:cNvPicPr/>
          <p:nvPr/>
        </p:nvPicPr>
        <p:blipFill>
          <a:blip r:embed="rId1"/>
          <a:srcRect l="7628" t="14986" r="5934" b="19828"/>
          <a:stretch/>
        </p:blipFill>
        <p:spPr>
          <a:xfrm>
            <a:off x="1733400" y="1143000"/>
            <a:ext cx="5677200" cy="3875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nipulating Equilibrium Consta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constant of a reaction in the reverse reaction is the reciprocal of the equilibrium constant of the forward react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47" name="Group 63"/>
          <p:cNvGrpSpPr/>
          <p:nvPr/>
        </p:nvGrpSpPr>
        <p:grpSpPr>
          <a:xfrm>
            <a:off x="43560" y="3673440"/>
            <a:ext cx="9002520" cy="926280"/>
            <a:chOff x="43560" y="3673440"/>
            <a:chExt cx="9002520" cy="926280"/>
          </a:xfrm>
        </p:grpSpPr>
        <p:grpSp>
          <p:nvGrpSpPr>
            <p:cNvPr id="148" name="Group 15"/>
            <p:cNvGrpSpPr/>
            <p:nvPr/>
          </p:nvGrpSpPr>
          <p:grpSpPr>
            <a:xfrm>
              <a:off x="4523400" y="3673440"/>
              <a:ext cx="4522680" cy="926280"/>
              <a:chOff x="4523400" y="3673440"/>
              <a:chExt cx="4522680" cy="926280"/>
            </a:xfrm>
          </p:grpSpPr>
          <p:sp>
            <p:nvSpPr>
              <p:cNvPr id="149" name="Rectangle 11"/>
              <p:cNvSpPr/>
              <p:nvPr/>
            </p:nvSpPr>
            <p:spPr>
              <a:xfrm>
                <a:off x="4523400" y="3855960"/>
                <a:ext cx="452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= 0.212 at 100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Group 14"/>
              <p:cNvGrpSpPr/>
              <p:nvPr/>
            </p:nvGrpSpPr>
            <p:grpSpPr>
              <a:xfrm>
                <a:off x="5263920" y="3673440"/>
                <a:ext cx="1218960" cy="926280"/>
                <a:chOff x="5263920" y="3673440"/>
                <a:chExt cx="1218960" cy="926280"/>
              </a:xfrm>
            </p:grpSpPr>
            <p:sp>
              <p:nvSpPr>
                <p:cNvPr id="151" name="Rectangle 12"/>
                <p:cNvSpPr/>
                <p:nvPr/>
              </p:nvSpPr>
              <p:spPr>
                <a:xfrm>
                  <a:off x="5401080" y="3673440"/>
                  <a:ext cx="1006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3"/>
                <p:cNvSpPr/>
                <p:nvPr/>
              </p:nvSpPr>
              <p:spPr>
                <a:xfrm>
                  <a:off x="5263920" y="4113000"/>
                  <a:ext cx="121896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" name="Group 53"/>
            <p:cNvGrpSpPr/>
            <p:nvPr/>
          </p:nvGrpSpPr>
          <p:grpSpPr>
            <a:xfrm>
              <a:off x="43560" y="3824280"/>
              <a:ext cx="4436640" cy="579600"/>
              <a:chOff x="43560" y="3824280"/>
              <a:chExt cx="4436640" cy="579600"/>
            </a:xfrm>
          </p:grpSpPr>
          <p:sp>
            <p:nvSpPr>
              <p:cNvPr id="154" name="Rectangle 50"/>
              <p:cNvSpPr/>
              <p:nvPr/>
            </p:nvSpPr>
            <p:spPr>
              <a:xfrm>
                <a:off x="43560" y="3824280"/>
                <a:ext cx="1292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 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52"/>
              <p:cNvSpPr/>
              <p:nvPr/>
            </p:nvSpPr>
            <p:spPr>
              <a:xfrm>
                <a:off x="3004920" y="3824280"/>
                <a:ext cx="1475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2 N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 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Group 62"/>
          <p:cNvGrpSpPr/>
          <p:nvPr/>
        </p:nvGrpSpPr>
        <p:grpSpPr>
          <a:xfrm>
            <a:off x="23760" y="4648320"/>
            <a:ext cx="9000000" cy="926280"/>
            <a:chOff x="23760" y="4648320"/>
            <a:chExt cx="9000000" cy="926280"/>
          </a:xfrm>
        </p:grpSpPr>
        <p:grpSp>
          <p:nvGrpSpPr>
            <p:cNvPr id="157" name="Group 17"/>
            <p:cNvGrpSpPr/>
            <p:nvPr/>
          </p:nvGrpSpPr>
          <p:grpSpPr>
            <a:xfrm>
              <a:off x="4670280" y="4648320"/>
              <a:ext cx="4353480" cy="926280"/>
              <a:chOff x="4670280" y="4648320"/>
              <a:chExt cx="4353480" cy="926280"/>
            </a:xfrm>
          </p:grpSpPr>
          <p:sp>
            <p:nvSpPr>
              <p:cNvPr id="158" name="Rectangle 18"/>
              <p:cNvSpPr/>
              <p:nvPr/>
            </p:nvSpPr>
            <p:spPr>
              <a:xfrm>
                <a:off x="4670280" y="4830840"/>
                <a:ext cx="4353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= 4.72 at 100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Group 19"/>
              <p:cNvGrpSpPr/>
              <p:nvPr/>
            </p:nvGrpSpPr>
            <p:grpSpPr>
              <a:xfrm>
                <a:off x="5410440" y="4648320"/>
                <a:ext cx="1218960" cy="926280"/>
                <a:chOff x="5410440" y="4648320"/>
                <a:chExt cx="1218960" cy="926280"/>
              </a:xfrm>
            </p:grpSpPr>
            <p:sp>
              <p:nvSpPr>
                <p:cNvPr id="160" name="Rectangle 20"/>
                <p:cNvSpPr/>
                <p:nvPr/>
              </p:nvSpPr>
              <p:spPr>
                <a:xfrm>
                  <a:off x="5547600" y="4648320"/>
                  <a:ext cx="1006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21"/>
                <p:cNvSpPr/>
                <p:nvPr/>
              </p:nvSpPr>
              <p:spPr>
                <a:xfrm>
                  <a:off x="5410440" y="5087880"/>
                  <a:ext cx="121896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60"/>
            <p:cNvGrpSpPr/>
            <p:nvPr/>
          </p:nvGrpSpPr>
          <p:grpSpPr>
            <a:xfrm>
              <a:off x="23760" y="4800600"/>
              <a:ext cx="4426920" cy="579600"/>
              <a:chOff x="23760" y="4800600"/>
              <a:chExt cx="4426920" cy="579600"/>
            </a:xfrm>
          </p:grpSpPr>
          <p:sp>
            <p:nvSpPr>
              <p:cNvPr id="163" name="Rectangle 56"/>
              <p:cNvSpPr/>
              <p:nvPr/>
            </p:nvSpPr>
            <p:spPr>
              <a:xfrm>
                <a:off x="3158280" y="4800600"/>
                <a:ext cx="1292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 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58"/>
              <p:cNvSpPr/>
              <p:nvPr/>
            </p:nvSpPr>
            <p:spPr>
              <a:xfrm>
                <a:off x="23760" y="4800600"/>
                <a:ext cx="1475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2 N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 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5" name="Picture 18" descr="equilibrium"/>
          <p:cNvPicPr/>
          <p:nvPr/>
        </p:nvPicPr>
        <p:blipFill>
          <a:blip r:embed="rId1"/>
          <a:stretch/>
        </p:blipFill>
        <p:spPr>
          <a:xfrm>
            <a:off x="1523880" y="4038480"/>
            <a:ext cx="1244880" cy="190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8" descr="equilibrium"/>
          <p:cNvPicPr/>
          <p:nvPr/>
        </p:nvPicPr>
        <p:blipFill>
          <a:blip r:embed="rId2"/>
          <a:stretch/>
        </p:blipFill>
        <p:spPr>
          <a:xfrm>
            <a:off x="1600200" y="4952880"/>
            <a:ext cx="1244520" cy="190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nipulating Equilibrium Consta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constant of a reaction that has been multiplied by a number is the equilibrium constant raised to a power that is equal to that number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69" name="Group 43"/>
          <p:cNvGrpSpPr/>
          <p:nvPr/>
        </p:nvGrpSpPr>
        <p:grpSpPr>
          <a:xfrm>
            <a:off x="43920" y="3505320"/>
            <a:ext cx="8996040" cy="926280"/>
            <a:chOff x="43920" y="3505320"/>
            <a:chExt cx="8996040" cy="926280"/>
          </a:xfrm>
        </p:grpSpPr>
        <p:grpSp>
          <p:nvGrpSpPr>
            <p:cNvPr id="170" name="Group 27"/>
            <p:cNvGrpSpPr/>
            <p:nvPr/>
          </p:nvGrpSpPr>
          <p:grpSpPr>
            <a:xfrm>
              <a:off x="4517280" y="3505320"/>
              <a:ext cx="4522680" cy="926280"/>
              <a:chOff x="4517280" y="3505320"/>
              <a:chExt cx="4522680" cy="926280"/>
            </a:xfrm>
          </p:grpSpPr>
          <p:sp>
            <p:nvSpPr>
              <p:cNvPr id="171" name="Rectangle 28"/>
              <p:cNvSpPr/>
              <p:nvPr/>
            </p:nvSpPr>
            <p:spPr>
              <a:xfrm>
                <a:off x="4517280" y="3687840"/>
                <a:ext cx="452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= 0.212 at 100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Group 29"/>
              <p:cNvGrpSpPr/>
              <p:nvPr/>
            </p:nvGrpSpPr>
            <p:grpSpPr>
              <a:xfrm>
                <a:off x="5257800" y="3505320"/>
                <a:ext cx="1218960" cy="926280"/>
                <a:chOff x="5257800" y="3505320"/>
                <a:chExt cx="1218960" cy="926280"/>
              </a:xfrm>
            </p:grpSpPr>
            <p:sp>
              <p:nvSpPr>
                <p:cNvPr id="173" name="Rectangle 30"/>
                <p:cNvSpPr/>
                <p:nvPr/>
              </p:nvSpPr>
              <p:spPr>
                <a:xfrm>
                  <a:off x="5394960" y="3505320"/>
                  <a:ext cx="1006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31"/>
                <p:cNvSpPr/>
                <p:nvPr/>
              </p:nvSpPr>
              <p:spPr>
                <a:xfrm>
                  <a:off x="5257800" y="3944880"/>
                  <a:ext cx="121896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Group 32"/>
            <p:cNvGrpSpPr/>
            <p:nvPr/>
          </p:nvGrpSpPr>
          <p:grpSpPr>
            <a:xfrm>
              <a:off x="43920" y="3656160"/>
              <a:ext cx="4336920" cy="579600"/>
              <a:chOff x="43920" y="3656160"/>
              <a:chExt cx="4336920" cy="579600"/>
            </a:xfrm>
          </p:grpSpPr>
          <p:sp>
            <p:nvSpPr>
              <p:cNvPr id="176" name="Rectangle 33"/>
              <p:cNvSpPr/>
              <p:nvPr/>
            </p:nvSpPr>
            <p:spPr>
              <a:xfrm>
                <a:off x="43920" y="3656160"/>
                <a:ext cx="1193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4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35"/>
              <p:cNvSpPr/>
              <p:nvPr/>
            </p:nvSpPr>
            <p:spPr>
              <a:xfrm>
                <a:off x="3004920" y="3656160"/>
                <a:ext cx="1375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2 N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8" name="Group 44"/>
          <p:cNvGrpSpPr/>
          <p:nvPr/>
        </p:nvGrpSpPr>
        <p:grpSpPr>
          <a:xfrm>
            <a:off x="720" y="4740120"/>
            <a:ext cx="9120960" cy="926280"/>
            <a:chOff x="720" y="4740120"/>
            <a:chExt cx="9120960" cy="926280"/>
          </a:xfrm>
        </p:grpSpPr>
        <p:grpSp>
          <p:nvGrpSpPr>
            <p:cNvPr id="179" name="Group 17"/>
            <p:cNvGrpSpPr/>
            <p:nvPr/>
          </p:nvGrpSpPr>
          <p:grpSpPr>
            <a:xfrm>
              <a:off x="4295880" y="4740120"/>
              <a:ext cx="4825800" cy="926280"/>
              <a:chOff x="4295880" y="4740120"/>
              <a:chExt cx="4825800" cy="926280"/>
            </a:xfrm>
          </p:grpSpPr>
          <p:sp>
            <p:nvSpPr>
              <p:cNvPr id="180" name="Rectangle 18"/>
              <p:cNvSpPr/>
              <p:nvPr/>
            </p:nvSpPr>
            <p:spPr>
              <a:xfrm>
                <a:off x="4295880" y="4922640"/>
                <a:ext cx="482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= (0.212)</a:t>
                </a:r>
                <a:r>
                  <a:rPr b="0" lang="en-US" sz="2400" spc="-1" strike="noStrike" baseline="30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at 100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Group 19"/>
              <p:cNvGrpSpPr/>
              <p:nvPr/>
            </p:nvGrpSpPr>
            <p:grpSpPr>
              <a:xfrm>
                <a:off x="5029200" y="4740120"/>
                <a:ext cx="1218960" cy="926280"/>
                <a:chOff x="5029200" y="4740120"/>
                <a:chExt cx="1218960" cy="926280"/>
              </a:xfrm>
            </p:grpSpPr>
            <p:sp>
              <p:nvSpPr>
                <p:cNvPr id="182" name="Rectangle 20"/>
                <p:cNvSpPr/>
                <p:nvPr/>
              </p:nvSpPr>
              <p:spPr>
                <a:xfrm>
                  <a:off x="5115960" y="4740120"/>
                  <a:ext cx="1105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21"/>
                <p:cNvSpPr/>
                <p:nvPr/>
              </p:nvSpPr>
              <p:spPr>
                <a:xfrm>
                  <a:off x="5029200" y="5179680"/>
                  <a:ext cx="121896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" name="Group 41"/>
            <p:cNvGrpSpPr/>
            <p:nvPr/>
          </p:nvGrpSpPr>
          <p:grpSpPr>
            <a:xfrm>
              <a:off x="720" y="4890960"/>
              <a:ext cx="4337640" cy="579600"/>
              <a:chOff x="720" y="4890960"/>
              <a:chExt cx="4337640" cy="579600"/>
            </a:xfrm>
          </p:grpSpPr>
          <p:sp>
            <p:nvSpPr>
              <p:cNvPr id="185" name="Rectangle 37"/>
              <p:cNvSpPr/>
              <p:nvPr/>
            </p:nvSpPr>
            <p:spPr>
              <a:xfrm>
                <a:off x="720" y="4890960"/>
                <a:ext cx="1490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2 N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4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39"/>
              <p:cNvSpPr/>
              <p:nvPr/>
            </p:nvSpPr>
            <p:spPr>
              <a:xfrm>
                <a:off x="2962440" y="4890960"/>
                <a:ext cx="1375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4 N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7" name="Picture 18" descr="equilibrium"/>
          <p:cNvPicPr/>
          <p:nvPr/>
        </p:nvPicPr>
        <p:blipFill>
          <a:blip r:embed="rId1"/>
          <a:stretch/>
        </p:blipFill>
        <p:spPr>
          <a:xfrm>
            <a:off x="1523880" y="3886200"/>
            <a:ext cx="1244880" cy="190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equilibrium"/>
          <p:cNvPicPr/>
          <p:nvPr/>
        </p:nvPicPr>
        <p:blipFill>
          <a:blip r:embed="rId2"/>
          <a:stretch/>
        </p:blipFill>
        <p:spPr>
          <a:xfrm>
            <a:off x="1600200" y="5029200"/>
            <a:ext cx="1244520" cy="190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nipulating Equilibrium Consta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constant for a net reaction made up of two or more steps is the product of the equilibrium constants for the individual step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ncentrations of Solids and Liquids Are Essentially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 the concentrations of solids and liquids do not appear in the equilibrium express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685800" y="48006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[Pb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[Cl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8"/>
          <p:cNvGrpSpPr/>
          <p:nvPr/>
        </p:nvGrpSpPr>
        <p:grpSpPr>
          <a:xfrm>
            <a:off x="1151280" y="3916440"/>
            <a:ext cx="6780600" cy="851760"/>
            <a:chOff x="1151280" y="3916440"/>
            <a:chExt cx="6780600" cy="851760"/>
          </a:xfrm>
        </p:grpSpPr>
        <p:sp>
          <p:nvSpPr>
            <p:cNvPr id="195" name="Rectangle 15"/>
            <p:cNvSpPr/>
            <p:nvPr/>
          </p:nvSpPr>
          <p:spPr>
            <a:xfrm>
              <a:off x="1151280" y="3916440"/>
              <a:ext cx="1531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PbCl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s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6"/>
            <p:cNvSpPr/>
            <p:nvPr/>
          </p:nvSpPr>
          <p:spPr>
            <a:xfrm>
              <a:off x="4782240" y="3916440"/>
              <a:ext cx="3149640" cy="85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Pb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2+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 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+ 2 Cl</a:t>
              </a:r>
              <a:r>
                <a:rPr b="0" lang="en-US" sz="4800" spc="-1" strike="noStrike" baseline="30000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18" descr="equilibrium"/>
          <p:cNvPicPr/>
          <p:nvPr/>
        </p:nvPicPr>
        <p:blipFill>
          <a:blip r:embed="rId1"/>
          <a:stretch/>
        </p:blipFill>
        <p:spPr>
          <a:xfrm>
            <a:off x="3048120" y="4114800"/>
            <a:ext cx="1244520" cy="190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660 #22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660 #30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02" name="Ink 1" descr=""/>
          <p:cNvPicPr/>
          <p:nvPr/>
        </p:nvPicPr>
        <p:blipFill>
          <a:blip r:embed="rId1"/>
          <a:stretch/>
        </p:blipFill>
        <p:spPr>
          <a:xfrm>
            <a:off x="1082520" y="1414440"/>
            <a:ext cx="648684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long a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CaC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 CaO remain in the system, the amount of C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bove the solid will remain the sam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04" name="Picture 8" descr="15_08"/>
          <p:cNvPicPr/>
          <p:nvPr/>
        </p:nvPicPr>
        <p:blipFill>
          <a:blip r:embed="rId1"/>
          <a:srcRect l="0" t="0" r="0" b="11459"/>
          <a:stretch/>
        </p:blipFill>
        <p:spPr>
          <a:xfrm>
            <a:off x="2438280" y="3276720"/>
            <a:ext cx="4267440" cy="270036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14"/>
          <p:cNvGrpSpPr/>
          <p:nvPr/>
        </p:nvGrpSpPr>
        <p:grpSpPr>
          <a:xfrm>
            <a:off x="536040" y="457200"/>
            <a:ext cx="8036280" cy="787320"/>
            <a:chOff x="536040" y="457200"/>
            <a:chExt cx="8036280" cy="787320"/>
          </a:xfrm>
        </p:grpSpPr>
        <p:sp>
          <p:nvSpPr>
            <p:cNvPr id="206" name="Rectangle 11"/>
            <p:cNvSpPr/>
            <p:nvPr/>
          </p:nvSpPr>
          <p:spPr>
            <a:xfrm>
              <a:off x="536040" y="457200"/>
              <a:ext cx="2177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CaCO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3 (</a:t>
              </a:r>
              <a:r>
                <a:rPr b="0" i="1" lang="en-US" sz="4000" spc="-1" strike="noStrike" baseline="-25000">
                  <a:solidFill>
                    <a:srgbClr val="c82e32"/>
                  </a:solidFill>
                  <a:latin typeface="Arial"/>
                </a:rPr>
                <a:t>s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2"/>
            <p:cNvSpPr/>
            <p:nvPr/>
          </p:nvSpPr>
          <p:spPr>
            <a:xfrm>
              <a:off x="5063040" y="457200"/>
              <a:ext cx="35092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CO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40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 + CaO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4000" spc="-1" strike="noStrike" baseline="-25000">
                  <a:solidFill>
                    <a:srgbClr val="c82e32"/>
                  </a:solidFill>
                  <a:latin typeface="Arial"/>
                </a:rPr>
                <a:t>s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Picture 18" descr="equilibrium"/>
          <p:cNvPicPr/>
          <p:nvPr/>
        </p:nvPicPr>
        <p:blipFill>
          <a:blip r:embed="rId2"/>
          <a:stretch/>
        </p:blipFill>
        <p:spPr>
          <a:xfrm>
            <a:off x="3200400" y="838080"/>
            <a:ext cx="1244520" cy="190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n Equilibrium Proble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 closed system initially containing 1.000 x 10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and 2.000 x 10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I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at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448 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 is allowed to reach equilibrium.  Analysis of the equilibrium mixture shows that the concentration of HI is 1.87 x 10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.  Calculate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at 448 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 for the reaction taking place, which is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11" name="Group 11"/>
          <p:cNvGrpSpPr/>
          <p:nvPr/>
        </p:nvGrpSpPr>
        <p:grpSpPr>
          <a:xfrm>
            <a:off x="1589760" y="3429000"/>
            <a:ext cx="6078240" cy="718200"/>
            <a:chOff x="1589760" y="3429000"/>
            <a:chExt cx="6078240" cy="718200"/>
          </a:xfrm>
        </p:grpSpPr>
        <p:sp>
          <p:nvSpPr>
            <p:cNvPr id="212" name="Rectangle 7"/>
            <p:cNvSpPr/>
            <p:nvPr/>
          </p:nvSpPr>
          <p:spPr>
            <a:xfrm>
              <a:off x="1589760" y="3429000"/>
              <a:ext cx="22492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6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 + I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6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6251040" y="3429000"/>
              <a:ext cx="14169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2 HI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 (</a:t>
              </a:r>
              <a:r>
                <a:rPr b="0" i="1" lang="en-US" sz="36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Picture 18" descr="equilibrium"/>
          <p:cNvPicPr/>
          <p:nvPr/>
        </p:nvPicPr>
        <p:blipFill>
          <a:blip r:embed="rId1"/>
          <a:stretch/>
        </p:blipFill>
        <p:spPr>
          <a:xfrm>
            <a:off x="4251240" y="3654360"/>
            <a:ext cx="1244520" cy="190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What Do We Know?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04920" y="1981080"/>
          <a:ext cx="8534160" cy="2971800"/>
        </p:xfrm>
        <a:graphic>
          <a:graphicData uri="http://schemas.openxmlformats.org/drawingml/2006/table">
            <a:tbl>
              <a:tblPr/>
              <a:tblGrid>
                <a:gridCol w="2174760"/>
                <a:gridCol w="2092320"/>
                <a:gridCol w="2133720"/>
                <a:gridCol w="213336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I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I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[HI] Increases by 1.87 x 10</a:t>
            </a:r>
            <a:r>
              <a:rPr b="0" lang="en-US" sz="36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04920" y="1981080"/>
          <a:ext cx="8534160" cy="2971800"/>
        </p:xfrm>
        <a:graphic>
          <a:graphicData uri="http://schemas.openxmlformats.org/drawingml/2006/table">
            <a:tbl>
              <a:tblPr/>
              <a:tblGrid>
                <a:gridCol w="2174760"/>
                <a:gridCol w="2092320"/>
                <a:gridCol w="2133720"/>
                <a:gridCol w="213336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I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I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1.87 x 10</a:t>
                      </a:r>
                      <a:r>
                        <a:rPr b="0" lang="en-US" sz="2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ncept of Equilibriu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a system approaches equilibrium, both the forward and reverse reactions are occurring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t equilibrium, the forward and reverse reactions are proceeding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at the same rat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7" name="Picture 7" descr="15_02"/>
          <p:cNvPicPr/>
          <p:nvPr/>
        </p:nvPicPr>
        <p:blipFill>
          <a:blip r:embed="rId1"/>
          <a:srcRect l="0" t="46431" r="0" b="9723"/>
          <a:stretch/>
        </p:blipFill>
        <p:spPr>
          <a:xfrm>
            <a:off x="264960" y="1433520"/>
            <a:ext cx="3926160" cy="30114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1"/>
          <p:cNvSpPr/>
          <p:nvPr/>
        </p:nvSpPr>
        <p:spPr>
          <a:xfrm>
            <a:off x="2305080" y="1876320"/>
            <a:ext cx="1806480" cy="21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Stoichiometry tells us [H</a:t>
            </a:r>
            <a:r>
              <a:rPr b="0" lang="en-US" sz="36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] and [I</a:t>
            </a:r>
            <a:r>
              <a:rPr b="0" lang="en-US" sz="36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] decrease by half as much.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04920" y="1981080"/>
          <a:ext cx="8534160" cy="2971800"/>
        </p:xfrm>
        <a:graphic>
          <a:graphicData uri="http://schemas.openxmlformats.org/drawingml/2006/table">
            <a:tbl>
              <a:tblPr/>
              <a:tblGrid>
                <a:gridCol w="2174760"/>
                <a:gridCol w="2092320"/>
                <a:gridCol w="2133720"/>
                <a:gridCol w="213336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I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I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9.35 x 10</a:t>
                      </a:r>
                      <a:r>
                        <a:rPr b="0" lang="en-US" sz="2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9.35 x 10</a:t>
                      </a:r>
                      <a:r>
                        <a:rPr b="0" lang="en-US" sz="2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+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We can now calculate the equilibrium concentrations of all three compounds…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04920" y="1981080"/>
          <a:ext cx="8534160" cy="2971800"/>
        </p:xfrm>
        <a:graphic>
          <a:graphicData uri="http://schemas.openxmlformats.org/drawingml/2006/table">
            <a:tbl>
              <a:tblPr/>
              <a:tblGrid>
                <a:gridCol w="2174760"/>
                <a:gridCol w="2092320"/>
                <a:gridCol w="2133720"/>
                <a:gridCol w="213336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I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I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-9.35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-9.35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+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.5 x 10</a:t>
                      </a:r>
                      <a:r>
                        <a:rPr b="0" lang="en-US" sz="2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065 x 10</a:t>
                      </a:r>
                      <a:r>
                        <a:rPr b="0" lang="en-US" sz="2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and, therefore, the equilibrium constant.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24" name="Group 17"/>
          <p:cNvGrpSpPr/>
          <p:nvPr/>
        </p:nvGrpSpPr>
        <p:grpSpPr>
          <a:xfrm>
            <a:off x="1461600" y="1752480"/>
            <a:ext cx="7159320" cy="3903840"/>
            <a:chOff x="1461600" y="1752480"/>
            <a:chExt cx="7159320" cy="3903840"/>
          </a:xfrm>
        </p:grpSpPr>
        <p:grpSp>
          <p:nvGrpSpPr>
            <p:cNvPr id="225" name="Group 15"/>
            <p:cNvGrpSpPr/>
            <p:nvPr/>
          </p:nvGrpSpPr>
          <p:grpSpPr>
            <a:xfrm>
              <a:off x="1461600" y="1752480"/>
              <a:ext cx="3149640" cy="1396800"/>
              <a:chOff x="1461600" y="1752480"/>
              <a:chExt cx="3149640" cy="1396800"/>
            </a:xfrm>
          </p:grpSpPr>
          <p:sp>
            <p:nvSpPr>
              <p:cNvPr id="226" name="Rectangle 4"/>
              <p:cNvSpPr/>
              <p:nvPr/>
            </p:nvSpPr>
            <p:spPr>
              <a:xfrm>
                <a:off x="1461600" y="2057400"/>
                <a:ext cx="11044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 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" name="Group 7"/>
              <p:cNvGrpSpPr/>
              <p:nvPr/>
            </p:nvGrpSpPr>
            <p:grpSpPr>
              <a:xfrm>
                <a:off x="2706480" y="1752480"/>
                <a:ext cx="1904760" cy="1396800"/>
                <a:chOff x="2706480" y="1752480"/>
                <a:chExt cx="1904760" cy="1396800"/>
              </a:xfrm>
            </p:grpSpPr>
            <p:sp>
              <p:nvSpPr>
                <p:cNvPr id="228" name="Rectangle 5"/>
                <p:cNvSpPr/>
                <p:nvPr/>
              </p:nvSpPr>
              <p:spPr>
                <a:xfrm>
                  <a:off x="2810520" y="1752480"/>
                  <a:ext cx="172332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[HI]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[H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] [I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6"/>
                <p:cNvSpPr/>
                <p:nvPr/>
              </p:nvSpPr>
              <p:spPr>
                <a:xfrm>
                  <a:off x="2706480" y="2466720"/>
                  <a:ext cx="1904760" cy="0"/>
                </a:xfrm>
                <a:prstGeom prst="line">
                  <a:avLst/>
                </a:prstGeom>
                <a:ln w="2844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Rectangle 10"/>
            <p:cNvSpPr/>
            <p:nvPr/>
          </p:nvSpPr>
          <p:spPr>
            <a:xfrm>
              <a:off x="2100600" y="4952880"/>
              <a:ext cx="1323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=  5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16"/>
            <p:cNvGrpSpPr/>
            <p:nvPr/>
          </p:nvGrpSpPr>
          <p:grpSpPr>
            <a:xfrm>
              <a:off x="2100600" y="3352680"/>
              <a:ext cx="6520320" cy="1312920"/>
              <a:chOff x="2100600" y="3352680"/>
              <a:chExt cx="6520320" cy="1312920"/>
            </a:xfrm>
          </p:grpSpPr>
          <p:sp>
            <p:nvSpPr>
              <p:cNvPr id="232" name="Rectangle 9"/>
              <p:cNvSpPr/>
              <p:nvPr/>
            </p:nvSpPr>
            <p:spPr>
              <a:xfrm>
                <a:off x="2100600" y="3657240"/>
                <a:ext cx="47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14"/>
              <p:cNvGrpSpPr/>
              <p:nvPr/>
            </p:nvGrpSpPr>
            <p:grpSpPr>
              <a:xfrm>
                <a:off x="2906280" y="3352680"/>
                <a:ext cx="5714640" cy="1312920"/>
                <a:chOff x="2906280" y="3352680"/>
                <a:chExt cx="5714640" cy="1312920"/>
              </a:xfrm>
            </p:grpSpPr>
            <p:sp>
              <p:nvSpPr>
                <p:cNvPr id="234" name="Rectangle 12"/>
                <p:cNvSpPr/>
                <p:nvPr/>
              </p:nvSpPr>
              <p:spPr>
                <a:xfrm>
                  <a:off x="2952000" y="3352680"/>
                  <a:ext cx="555768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(1.87 x 10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-3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)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(6.5 x 10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-5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)(1.065 x 10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-3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)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3"/>
                <p:cNvSpPr/>
                <p:nvPr/>
              </p:nvSpPr>
              <p:spPr>
                <a:xfrm>
                  <a:off x="2906280" y="4038120"/>
                  <a:ext cx="5714640" cy="0"/>
                </a:xfrm>
                <a:prstGeom prst="line">
                  <a:avLst/>
                </a:prstGeom>
                <a:ln w="2232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6" name="Rectangle 18"/>
          <p:cNvSpPr/>
          <p:nvPr/>
        </p:nvSpPr>
        <p:spPr>
          <a:xfrm>
            <a:off x="1447920" y="3200400"/>
            <a:ext cx="7315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9"/>
          <p:cNvSpPr/>
          <p:nvPr/>
        </p:nvSpPr>
        <p:spPr>
          <a:xfrm>
            <a:off x="1447920" y="4952880"/>
            <a:ext cx="35812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Reaction Quotient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gives the same ratio the equilibrium expression gives, but for a system that is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t equilibrium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o calculate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one substitutes the initial concentrations on reactants and products into the equilibrium express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0" y="685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the system is at equilibriu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25"/>
          <p:cNvGrpSpPr/>
          <p:nvPr/>
        </p:nvGrpSpPr>
        <p:grpSpPr>
          <a:xfrm>
            <a:off x="2424240" y="2028960"/>
            <a:ext cx="4281480" cy="4348080"/>
            <a:chOff x="2424240" y="2028960"/>
            <a:chExt cx="4281480" cy="4348080"/>
          </a:xfrm>
        </p:grpSpPr>
        <p:sp>
          <p:nvSpPr>
            <p:cNvPr id="243" name="Rectangle 14"/>
            <p:cNvSpPr/>
            <p:nvPr/>
          </p:nvSpPr>
          <p:spPr>
            <a:xfrm>
              <a:off x="2514600" y="2957400"/>
              <a:ext cx="1539720" cy="2311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6"/>
            <p:cNvSpPr/>
            <p:nvPr/>
          </p:nvSpPr>
          <p:spPr>
            <a:xfrm>
              <a:off x="2424240" y="5334120"/>
              <a:ext cx="1295280" cy="1042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19"/>
            <p:cNvGrpSpPr/>
            <p:nvPr/>
          </p:nvGrpSpPr>
          <p:grpSpPr>
            <a:xfrm>
              <a:off x="5165640" y="2028960"/>
              <a:ext cx="1540080" cy="4266720"/>
              <a:chOff x="5165640" y="2028960"/>
              <a:chExt cx="1540080" cy="4266720"/>
            </a:xfrm>
          </p:grpSpPr>
          <p:sp>
            <p:nvSpPr>
              <p:cNvPr id="246" name="Rectangle 13"/>
              <p:cNvSpPr/>
              <p:nvPr/>
            </p:nvSpPr>
            <p:spPr>
              <a:xfrm>
                <a:off x="5165640" y="2028960"/>
                <a:ext cx="1463760" cy="3237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18"/>
              <p:cNvSpPr/>
              <p:nvPr/>
            </p:nvSpPr>
            <p:spPr>
              <a:xfrm>
                <a:off x="5410080" y="5339520"/>
                <a:ext cx="1295640" cy="956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8" name="Picture 28" descr="15_09"/>
          <p:cNvPicPr/>
          <p:nvPr/>
        </p:nvPicPr>
        <p:blipFill>
          <a:blip r:embed="rId1"/>
          <a:srcRect l="0" t="0" r="0" b="4689"/>
          <a:stretch/>
        </p:blipFill>
        <p:spPr>
          <a:xfrm>
            <a:off x="2530440" y="1752480"/>
            <a:ext cx="4081320" cy="4648320"/>
          </a:xfrm>
          <a:prstGeom prst="rect">
            <a:avLst/>
          </a:prstGeom>
          <a:ln w="0">
            <a:noFill/>
          </a:ln>
        </p:spPr>
      </p:pic>
      <p:grpSp>
        <p:nvGrpSpPr>
          <p:cNvPr id="249" name="Group 31"/>
          <p:cNvGrpSpPr/>
          <p:nvPr/>
        </p:nvGrpSpPr>
        <p:grpSpPr>
          <a:xfrm>
            <a:off x="2286000" y="1752480"/>
            <a:ext cx="4633920" cy="4876920"/>
            <a:chOff x="2286000" y="1752480"/>
            <a:chExt cx="4633920" cy="4876920"/>
          </a:xfrm>
        </p:grpSpPr>
        <p:sp>
          <p:nvSpPr>
            <p:cNvPr id="250" name="Rectangle 29"/>
            <p:cNvSpPr/>
            <p:nvPr/>
          </p:nvSpPr>
          <p:spPr>
            <a:xfrm>
              <a:off x="5091120" y="1752480"/>
              <a:ext cx="1828800" cy="479916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30"/>
            <p:cNvSpPr/>
            <p:nvPr/>
          </p:nvSpPr>
          <p:spPr>
            <a:xfrm>
              <a:off x="2286000" y="1830240"/>
              <a:ext cx="1828800" cy="479916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&gt;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0" y="685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there is too much product, and the equilibrium shifts to the lef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2424240" y="2028960"/>
            <a:ext cx="4281480" cy="4348080"/>
            <a:chOff x="2424240" y="2028960"/>
            <a:chExt cx="4281480" cy="4348080"/>
          </a:xfrm>
        </p:grpSpPr>
        <p:sp>
          <p:nvSpPr>
            <p:cNvPr id="255" name="Rectangle 5"/>
            <p:cNvSpPr/>
            <p:nvPr/>
          </p:nvSpPr>
          <p:spPr>
            <a:xfrm>
              <a:off x="2514600" y="2957400"/>
              <a:ext cx="1539720" cy="2311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2424240" y="5334120"/>
              <a:ext cx="1295280" cy="1042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7"/>
            <p:cNvGrpSpPr/>
            <p:nvPr/>
          </p:nvGrpSpPr>
          <p:grpSpPr>
            <a:xfrm>
              <a:off x="5165640" y="2028960"/>
              <a:ext cx="1540080" cy="4266720"/>
              <a:chOff x="5165640" y="2028960"/>
              <a:chExt cx="1540080" cy="4266720"/>
            </a:xfrm>
          </p:grpSpPr>
          <p:sp>
            <p:nvSpPr>
              <p:cNvPr id="258" name="Rectangle 8"/>
              <p:cNvSpPr/>
              <p:nvPr/>
            </p:nvSpPr>
            <p:spPr>
              <a:xfrm>
                <a:off x="5165640" y="2028960"/>
                <a:ext cx="1463760" cy="3237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9"/>
              <p:cNvSpPr/>
              <p:nvPr/>
            </p:nvSpPr>
            <p:spPr>
              <a:xfrm>
                <a:off x="5410080" y="5339520"/>
                <a:ext cx="1295640" cy="956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0" name="Picture 10" descr="15_09"/>
          <p:cNvPicPr/>
          <p:nvPr/>
        </p:nvPicPr>
        <p:blipFill>
          <a:blip r:embed="rId1"/>
          <a:srcRect l="0" t="0" r="0" b="4689"/>
          <a:stretch/>
        </p:blipFill>
        <p:spPr>
          <a:xfrm>
            <a:off x="2530440" y="1752480"/>
            <a:ext cx="4081320" cy="464832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4"/>
          <p:cNvGrpSpPr/>
          <p:nvPr/>
        </p:nvGrpSpPr>
        <p:grpSpPr>
          <a:xfrm>
            <a:off x="1763640" y="1830240"/>
            <a:ext cx="3722760" cy="4799160"/>
            <a:chOff x="1763640" y="1830240"/>
            <a:chExt cx="3722760" cy="4799160"/>
          </a:xfrm>
        </p:grpSpPr>
        <p:sp>
          <p:nvSpPr>
            <p:cNvPr id="262" name="Rectangle 11"/>
            <p:cNvSpPr/>
            <p:nvPr/>
          </p:nvSpPr>
          <p:spPr>
            <a:xfrm>
              <a:off x="3581280" y="1830240"/>
              <a:ext cx="1828800" cy="479916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2"/>
            <p:cNvSpPr/>
            <p:nvPr/>
          </p:nvSpPr>
          <p:spPr>
            <a:xfrm>
              <a:off x="1763640" y="1830240"/>
              <a:ext cx="1828800" cy="479916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3"/>
            <p:cNvSpPr/>
            <p:nvPr/>
          </p:nvSpPr>
          <p:spPr>
            <a:xfrm>
              <a:off x="5410080" y="4191120"/>
              <a:ext cx="76320" cy="22860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&lt;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0" y="685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there is too much reactant, and the equilibrium shifts to the r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2424240" y="2028960"/>
            <a:ext cx="4281480" cy="4348080"/>
            <a:chOff x="2424240" y="2028960"/>
            <a:chExt cx="4281480" cy="4348080"/>
          </a:xfrm>
        </p:grpSpPr>
        <p:sp>
          <p:nvSpPr>
            <p:cNvPr id="268" name="Rectangle 5"/>
            <p:cNvSpPr/>
            <p:nvPr/>
          </p:nvSpPr>
          <p:spPr>
            <a:xfrm>
              <a:off x="2514600" y="2957400"/>
              <a:ext cx="1539720" cy="2311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6"/>
            <p:cNvSpPr/>
            <p:nvPr/>
          </p:nvSpPr>
          <p:spPr>
            <a:xfrm>
              <a:off x="2424240" y="5334120"/>
              <a:ext cx="1295280" cy="1042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Group 7"/>
            <p:cNvGrpSpPr/>
            <p:nvPr/>
          </p:nvGrpSpPr>
          <p:grpSpPr>
            <a:xfrm>
              <a:off x="5165640" y="2028960"/>
              <a:ext cx="1540080" cy="4266720"/>
              <a:chOff x="5165640" y="2028960"/>
              <a:chExt cx="1540080" cy="4266720"/>
            </a:xfrm>
          </p:grpSpPr>
          <p:sp>
            <p:nvSpPr>
              <p:cNvPr id="271" name="Rectangle 8"/>
              <p:cNvSpPr/>
              <p:nvPr/>
            </p:nvSpPr>
            <p:spPr>
              <a:xfrm>
                <a:off x="5165640" y="2028960"/>
                <a:ext cx="1463760" cy="3237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9"/>
              <p:cNvSpPr/>
              <p:nvPr/>
            </p:nvSpPr>
            <p:spPr>
              <a:xfrm>
                <a:off x="5410080" y="5339520"/>
                <a:ext cx="1295640" cy="956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73" name="Picture 10" descr="15_09"/>
          <p:cNvPicPr/>
          <p:nvPr/>
        </p:nvPicPr>
        <p:blipFill>
          <a:blip r:embed="rId1"/>
          <a:srcRect l="0" t="0" r="0" b="4689"/>
          <a:stretch/>
        </p:blipFill>
        <p:spPr>
          <a:xfrm>
            <a:off x="2530440" y="1752480"/>
            <a:ext cx="4081320" cy="46483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5"/>
          <p:cNvGrpSpPr/>
          <p:nvPr/>
        </p:nvGrpSpPr>
        <p:grpSpPr>
          <a:xfrm>
            <a:off x="3635280" y="1785960"/>
            <a:ext cx="3832200" cy="4843440"/>
            <a:chOff x="3635280" y="1785960"/>
            <a:chExt cx="3832200" cy="4843440"/>
          </a:xfrm>
        </p:grpSpPr>
        <p:sp>
          <p:nvSpPr>
            <p:cNvPr id="275" name="Rectangle 11"/>
            <p:cNvSpPr/>
            <p:nvPr/>
          </p:nvSpPr>
          <p:spPr>
            <a:xfrm>
              <a:off x="5638680" y="1785960"/>
              <a:ext cx="1828800" cy="479916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2"/>
            <p:cNvSpPr/>
            <p:nvPr/>
          </p:nvSpPr>
          <p:spPr>
            <a:xfrm>
              <a:off x="3809880" y="1830240"/>
              <a:ext cx="1828800" cy="479916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4"/>
            <p:cNvSpPr/>
            <p:nvPr/>
          </p:nvSpPr>
          <p:spPr>
            <a:xfrm>
              <a:off x="3635280" y="4191120"/>
              <a:ext cx="174600" cy="22860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661 #38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662 #46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Le Châtelier’s Princip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f a system at equilibrium is disturbed by a change in temperature, pressure, or the concentration of one of the components, the system will shift its equilibrium position so as to counteract the effect of the disturbance.”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 System at Equilibriu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ce equilibrium is achieved, th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amoun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each reactant and product remains consta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1" name="Picture 7" descr="15_02"/>
          <p:cNvPicPr/>
          <p:nvPr/>
        </p:nvPicPr>
        <p:blipFill>
          <a:blip r:embed="rId1"/>
          <a:srcRect l="0" t="0" r="0" b="59262"/>
          <a:stretch/>
        </p:blipFill>
        <p:spPr>
          <a:xfrm>
            <a:off x="4038480" y="1735200"/>
            <a:ext cx="4724640" cy="337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Haber Proces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transformation of nitrogen and hydrogen into ammonia (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 is of tremendous significance in agriculture, where ammonia-based fertilizers are of utmost importan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86" name="Picture 8" descr="15_04"/>
          <p:cNvPicPr/>
          <p:nvPr/>
        </p:nvPicPr>
        <p:blipFill>
          <a:blip r:embed="rId1"/>
          <a:srcRect l="0" t="0" r="0" b="4533"/>
          <a:stretch/>
        </p:blipFill>
        <p:spPr>
          <a:xfrm>
            <a:off x="304920" y="3809880"/>
            <a:ext cx="594360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Haber Proces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added to the system, 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will be consumed and the two reagents will form more 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89" name="Picture 9" descr="15_04"/>
          <p:cNvPicPr/>
          <p:nvPr/>
        </p:nvPicPr>
        <p:blipFill>
          <a:blip r:embed="rId1"/>
          <a:srcRect l="0" t="0" r="0" b="7084"/>
          <a:stretch/>
        </p:blipFill>
        <p:spPr>
          <a:xfrm>
            <a:off x="609480" y="1219320"/>
            <a:ext cx="3657600" cy="16761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0" descr="15_11"/>
          <p:cNvPicPr/>
          <p:nvPr/>
        </p:nvPicPr>
        <p:blipFill>
          <a:blip r:embed="rId2"/>
          <a:srcRect l="0" t="0" r="0" b="3279"/>
          <a:stretch/>
        </p:blipFill>
        <p:spPr>
          <a:xfrm>
            <a:off x="619200" y="3352680"/>
            <a:ext cx="3444840" cy="337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Haber Proces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apparatus helps push the equilibrium to the right by removing the ammonia (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 from the system as a liqui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93" name="Picture 8" descr="15_12"/>
          <p:cNvPicPr/>
          <p:nvPr/>
        </p:nvPicPr>
        <p:blipFill>
          <a:blip r:embed="rId1"/>
          <a:srcRect l="0" t="0" r="0" b="3334"/>
          <a:stretch/>
        </p:blipFill>
        <p:spPr>
          <a:xfrm>
            <a:off x="181080" y="1523880"/>
            <a:ext cx="452412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ffect of Changes in Temperatur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95" name="Group 15"/>
          <p:cNvGrpSpPr/>
          <p:nvPr/>
        </p:nvGrpSpPr>
        <p:grpSpPr>
          <a:xfrm>
            <a:off x="293760" y="1614600"/>
            <a:ext cx="8583480" cy="579600"/>
            <a:chOff x="293760" y="1614600"/>
            <a:chExt cx="8583480" cy="579600"/>
          </a:xfrm>
        </p:grpSpPr>
        <p:sp>
          <p:nvSpPr>
            <p:cNvPr id="296" name="Rectangle 11"/>
            <p:cNvSpPr/>
            <p:nvPr/>
          </p:nvSpPr>
          <p:spPr>
            <a:xfrm>
              <a:off x="293760" y="1614600"/>
              <a:ext cx="3638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Co(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)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6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2+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4 Cl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2"/>
            <p:cNvSpPr/>
            <p:nvPr/>
          </p:nvSpPr>
          <p:spPr>
            <a:xfrm>
              <a:off x="5737680" y="1614600"/>
              <a:ext cx="3139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CoCl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4 (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6 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 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8" name="Picture 18" descr="15_14"/>
          <p:cNvPicPr/>
          <p:nvPr/>
        </p:nvPicPr>
        <p:blipFill>
          <a:blip r:embed="rId1"/>
          <a:srcRect l="7897" t="21661" r="7897" b="18973"/>
          <a:stretch/>
        </p:blipFill>
        <p:spPr>
          <a:xfrm>
            <a:off x="1638360" y="2362320"/>
            <a:ext cx="5867280" cy="4089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8" descr="equilibrium"/>
          <p:cNvPicPr/>
          <p:nvPr/>
        </p:nvPicPr>
        <p:blipFill>
          <a:blip r:embed="rId2"/>
          <a:stretch/>
        </p:blipFill>
        <p:spPr>
          <a:xfrm>
            <a:off x="4114800" y="1828800"/>
            <a:ext cx="1244520" cy="190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662 #52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talys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talysts increase the rate of both the forwar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reverse reacti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04" name="Picture 6" descr="15_15"/>
          <p:cNvPicPr/>
          <p:nvPr/>
        </p:nvPicPr>
        <p:blipFill>
          <a:blip r:embed="rId1"/>
          <a:srcRect l="0" t="0" r="0" b="3715"/>
          <a:stretch/>
        </p:blipFill>
        <p:spPr>
          <a:xfrm>
            <a:off x="685800" y="2406600"/>
            <a:ext cx="380988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atalys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n one uses a catalyst, equilibrium is achieved faster, but the equilibrium composition remains unalter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07" name="Picture 4" descr="15_15"/>
          <p:cNvPicPr/>
          <p:nvPr/>
        </p:nvPicPr>
        <p:blipFill>
          <a:blip r:embed="rId1"/>
          <a:srcRect l="0" t="0" r="0" b="3715"/>
          <a:stretch/>
        </p:blipFill>
        <p:spPr>
          <a:xfrm>
            <a:off x="685800" y="2406600"/>
            <a:ext cx="380988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epicting Equilibriu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nce, in a system at equilibrium, both the forward and reverse reactions are being carried out, we write its equation with a double arrow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64" name="Group 20"/>
          <p:cNvGrpSpPr/>
          <p:nvPr/>
        </p:nvGrpSpPr>
        <p:grpSpPr>
          <a:xfrm>
            <a:off x="2285280" y="4343400"/>
            <a:ext cx="4576680" cy="648720"/>
            <a:chOff x="2285280" y="4343400"/>
            <a:chExt cx="4576680" cy="648720"/>
          </a:xfrm>
        </p:grpSpPr>
        <p:sp>
          <p:nvSpPr>
            <p:cNvPr id="65" name="Rectangle 16"/>
            <p:cNvSpPr/>
            <p:nvPr/>
          </p:nvSpPr>
          <p:spPr>
            <a:xfrm>
              <a:off x="2285280" y="4343400"/>
              <a:ext cx="1406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4 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icture 18" descr="equilibrium"/>
            <p:cNvPicPr/>
            <p:nvPr/>
          </p:nvPicPr>
          <p:blipFill>
            <a:blip r:embed="rId1"/>
            <a:stretch/>
          </p:blipFill>
          <p:spPr>
            <a:xfrm>
              <a:off x="3851280" y="4538520"/>
              <a:ext cx="12445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19"/>
            <p:cNvSpPr/>
            <p:nvPr/>
          </p:nvSpPr>
          <p:spPr>
            <a:xfrm>
              <a:off x="5248800" y="4343400"/>
              <a:ext cx="1613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2 NO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rward reaction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 (g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2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 (g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Law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e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[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everse reaction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2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 (g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 (g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Law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e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[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 at equilibrium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Rate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=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ewriting this, it becom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74" name="Group 14"/>
          <p:cNvGrpSpPr/>
          <p:nvPr/>
        </p:nvGrpSpPr>
        <p:grpSpPr>
          <a:xfrm>
            <a:off x="3033720" y="4258800"/>
            <a:ext cx="3023280" cy="1480680"/>
            <a:chOff x="3033720" y="4258800"/>
            <a:chExt cx="3023280" cy="1480680"/>
          </a:xfrm>
        </p:grpSpPr>
        <p:grpSp>
          <p:nvGrpSpPr>
            <p:cNvPr id="75" name="Group 8"/>
            <p:cNvGrpSpPr/>
            <p:nvPr/>
          </p:nvGrpSpPr>
          <p:grpSpPr>
            <a:xfrm>
              <a:off x="3033720" y="4258800"/>
              <a:ext cx="755280" cy="1480680"/>
              <a:chOff x="3033720" y="4258800"/>
              <a:chExt cx="755280" cy="1480680"/>
            </a:xfrm>
          </p:grpSpPr>
          <p:sp>
            <p:nvSpPr>
              <p:cNvPr id="76" name="Rectangle 6"/>
              <p:cNvSpPr/>
              <p:nvPr/>
            </p:nvSpPr>
            <p:spPr>
              <a:xfrm>
                <a:off x="3114360" y="4258800"/>
                <a:ext cx="674640" cy="14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f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r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7"/>
              <p:cNvSpPr/>
              <p:nvPr/>
            </p:nvSpPr>
            <p:spPr>
              <a:xfrm>
                <a:off x="3033720" y="5062320"/>
                <a:ext cx="68580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11"/>
            <p:cNvGrpSpPr/>
            <p:nvPr/>
          </p:nvGrpSpPr>
          <p:grpSpPr>
            <a:xfrm>
              <a:off x="4494240" y="4258800"/>
              <a:ext cx="1562760" cy="1480680"/>
              <a:chOff x="4494240" y="4258800"/>
              <a:chExt cx="1562760" cy="1480680"/>
            </a:xfrm>
          </p:grpSpPr>
          <p:sp>
            <p:nvSpPr>
              <p:cNvPr id="79" name="Rectangle 9"/>
              <p:cNvSpPr/>
              <p:nvPr/>
            </p:nvSpPr>
            <p:spPr>
              <a:xfrm>
                <a:off x="4506120" y="4258800"/>
                <a:ext cx="1550880" cy="14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NO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N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10"/>
              <p:cNvSpPr/>
              <p:nvPr/>
            </p:nvSpPr>
            <p:spPr>
              <a:xfrm>
                <a:off x="4494240" y="5046480"/>
                <a:ext cx="152388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Rectangle 12"/>
            <p:cNvSpPr/>
            <p:nvPr/>
          </p:nvSpPr>
          <p:spPr>
            <a:xfrm>
              <a:off x="3888360" y="468576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ratio of the rate constants is a constant at that temperature, and the expression becom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84" name="Group 15"/>
          <p:cNvGrpSpPr/>
          <p:nvPr/>
        </p:nvGrpSpPr>
        <p:grpSpPr>
          <a:xfrm>
            <a:off x="2289600" y="3573000"/>
            <a:ext cx="4563720" cy="1480680"/>
            <a:chOff x="2289600" y="3573000"/>
            <a:chExt cx="4563720" cy="1480680"/>
          </a:xfrm>
        </p:grpSpPr>
        <p:sp>
          <p:nvSpPr>
            <p:cNvPr id="85" name="Rectangle 6"/>
            <p:cNvSpPr/>
            <p:nvPr/>
          </p:nvSpPr>
          <p:spPr>
            <a:xfrm>
              <a:off x="2289600" y="3962520"/>
              <a:ext cx="12826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eq</a:t>
              </a: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3830400" y="3573000"/>
              <a:ext cx="3022920" cy="1480680"/>
              <a:chOff x="3830400" y="3573000"/>
              <a:chExt cx="3022920" cy="1480680"/>
            </a:xfrm>
          </p:grpSpPr>
          <p:grpSp>
            <p:nvGrpSpPr>
              <p:cNvPr id="87" name="Group 8"/>
              <p:cNvGrpSpPr/>
              <p:nvPr/>
            </p:nvGrpSpPr>
            <p:grpSpPr>
              <a:xfrm>
                <a:off x="3830400" y="3573000"/>
                <a:ext cx="755280" cy="1480680"/>
                <a:chOff x="3830400" y="3573000"/>
                <a:chExt cx="755280" cy="1480680"/>
              </a:xfrm>
            </p:grpSpPr>
            <p:sp>
              <p:nvSpPr>
                <p:cNvPr id="88" name="Rectangle 9"/>
                <p:cNvSpPr/>
                <p:nvPr/>
              </p:nvSpPr>
              <p:spPr>
                <a:xfrm>
                  <a:off x="3911040" y="3573000"/>
                  <a:ext cx="674640" cy="14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k</a:t>
                  </a:r>
                  <a:r>
                    <a:rPr b="0" i="1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f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k</a:t>
                  </a:r>
                  <a:r>
                    <a:rPr b="0" i="1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r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Line 10"/>
                <p:cNvSpPr/>
                <p:nvPr/>
              </p:nvSpPr>
              <p:spPr>
                <a:xfrm>
                  <a:off x="3830400" y="4376520"/>
                  <a:ext cx="685800" cy="0"/>
                </a:xfrm>
                <a:prstGeom prst="line">
                  <a:avLst/>
                </a:prstGeom>
                <a:ln w="2844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Group 11"/>
              <p:cNvGrpSpPr/>
              <p:nvPr/>
            </p:nvGrpSpPr>
            <p:grpSpPr>
              <a:xfrm>
                <a:off x="5290560" y="3573000"/>
                <a:ext cx="1562760" cy="1480680"/>
                <a:chOff x="5290560" y="3573000"/>
                <a:chExt cx="1562760" cy="1480680"/>
              </a:xfrm>
            </p:grpSpPr>
            <p:sp>
              <p:nvSpPr>
                <p:cNvPr id="91" name="Rectangle 12"/>
                <p:cNvSpPr/>
                <p:nvPr/>
              </p:nvSpPr>
              <p:spPr>
                <a:xfrm>
                  <a:off x="5302440" y="3573000"/>
                  <a:ext cx="1550880" cy="14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13"/>
                <p:cNvSpPr/>
                <p:nvPr/>
              </p:nvSpPr>
              <p:spPr>
                <a:xfrm>
                  <a:off x="5290560" y="4360680"/>
                  <a:ext cx="1523520" cy="0"/>
                </a:xfrm>
                <a:prstGeom prst="line">
                  <a:avLst/>
                </a:prstGeom>
                <a:ln w="2844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Rectangle 14"/>
              <p:cNvSpPr/>
              <p:nvPr/>
            </p:nvSpPr>
            <p:spPr>
              <a:xfrm>
                <a:off x="4794480" y="3961080"/>
                <a:ext cx="47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9:58:48Z</dcterms:created>
  <dc:creator>John Bookstaver</dc:creator>
  <dc:description/>
  <dc:language>en-US</dc:language>
  <cp:lastModifiedBy>Windows User</cp:lastModifiedBy>
  <dcterms:modified xsi:type="dcterms:W3CDTF">2011-11-15T14:21:44Z</dcterms:modified>
  <cp:revision>102</cp:revision>
  <dc:subject/>
  <dc:title>Chapter 15 Chemical Equilibrium</dc:title>
</cp:coreProperties>
</file>